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media/image11.gif" ContentType="image/gif"/>
  <Override PartName="/ppt/media/image1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21E-A891-4E9A-BFEC-4319EE6F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40C-8D14-457A-BB69-AA977329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D24-4DAC-42BD-9188-E853AF27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A30-C6EF-4FAA-8D90-87BF3DD3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88E0-AE26-492F-8550-8E9976AA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19A0-BC5F-4D1C-AE02-F04510F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2E06-B6A5-4758-9AA7-5EF2624C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6BF2-BF9B-4F39-A8BC-D8418029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C6B4-8364-47BF-94AF-756A0F24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C4DA-ABC3-4B6C-A0F9-F3BEB28A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07F6-AB45-452E-A0E6-47FCB506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0B9-A1C8-4994-842D-1E812FBB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BA9A-4E56-48B7-90A4-DF7C98E8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A0D3-785E-44B8-A7C4-4E055136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8167-4541-4146-8FD9-8886B41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3A19-3E77-48E5-8605-596DBBEE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1896-B45C-4F19-80F0-B37F5EE1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B8B5-1E60-4B0F-B33F-04EC17D4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64CB-163B-41C1-8433-F23BD7AF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229E-608D-4369-816D-D2F13BC5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2D31-3693-4808-8362-DC63979F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E36A-6A0D-44E6-8498-1E30AE7D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2A5-065F-4CA7-8AE7-F205258B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48A7-AD7D-4CD4-B759-A7AD856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3DE1-31CC-4808-B0F4-1F55A09C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E60B-CD52-488D-8C67-39A6FA18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B524-86C9-4A14-8F75-24BC4A73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6887-9B3A-46B2-9874-568DFC99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99FDD-9C31-435B-B62D-50D21985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AE04-371E-4499-BCC9-2609D1E4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818B1-885D-4B82-941B-DB69CEA9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E97D-66D2-4105-8F69-0755A6A6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EB43-F7CE-40B8-B1C1-BB0C1087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8B3-7337-4579-8465-9FA98D04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EE2A9-CDD0-4F78-84C6-F1AB8713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2757-5FBF-42C0-B1ED-70847275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AC0BE-1DBE-4B63-A1D6-FDF3D9BC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4BD3-650F-42BC-9412-53EC060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E1F7-3138-4BCA-82DE-DA91805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877D6-F762-4AC3-9011-4816410F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B5A7A-542E-4D74-80A0-8F976584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1660-C1F7-4EC0-9DCF-86B52DE0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3365-0966-4BBF-996B-3BCCD071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3A3-A193-4382-A704-DDF6310F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FEC-8DF9-4A4A-817F-FAB29BEF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FA5-98EF-4C66-98AB-F217514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C57-993D-4E32-B3EA-73DEF778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3C6-252D-4463-959D-550B61A4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BB75-2F9C-4B95-AB01-70763FA0DCF3}" type="slidenum">
              <a:rPr b="0" lang="en-AU" sz="1200" spc="-1" strike="noStrike">
                <a:solidFill>
                  <a:srgbClr val="a93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A0FE-937F-4CC0-BE34-D0D6315396FB}" type="slidenum">
              <a:rPr b="0" lang="en-AU" sz="1200" spc="-1" strike="noStrike">
                <a:solidFill>
                  <a:srgbClr val="e9dc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B31-6AF4-4762-B5AF-AF5AB2E84A85}" type="slidenum">
              <a:rPr b="0" lang="en-AU" sz="1200" spc="-1" strike="noStrike">
                <a:solidFill>
                  <a:srgbClr val="e9dc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75BF-0719-46F1-AEBA-9625A2DE1385}" type="slidenum">
              <a:rPr b="0" lang="en-AU" sz="1200" spc="-1" strike="noStrike">
                <a:solidFill>
                  <a:srgbClr val="a93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29600" cy="1543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643040" y="1356840"/>
            <a:ext cx="6400800" cy="4643640"/>
          </a:xfrm>
          <a:prstGeom prst="rect">
            <a:avLst/>
          </a:prstGeom>
          <a:noFill/>
          <a:ln w="9360">
            <a:solidFill>
              <a:srgbClr val="b83d68"/>
            </a:solidFill>
            <a:miter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ffde66"/>
                </a:solidFill>
                <a:uFillTx/>
                <a:latin typeface="Constantia"/>
                <a:hlinkClick r:id="rId2" action="ppaction://hlinksldjump"/>
              </a:rPr>
              <a:t>Grav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ffde66"/>
                </a:solidFill>
                <a:uFillTx/>
                <a:latin typeface="Constantia"/>
                <a:hlinkClick r:id="rId3" action="ppaction://hlinksldjump"/>
              </a:rPr>
              <a:t>Lift</a:t>
            </a:r>
            <a:br>
              <a:rPr sz="2600"/>
            </a:br>
            <a:r>
              <a:rPr b="0" lang="en-AU" sz="2600" spc="-1" strike="noStrike" u="sng">
                <a:solidFill>
                  <a:srgbClr val="ffde66"/>
                </a:solidFill>
                <a:uFillTx/>
                <a:latin typeface="Constantia"/>
                <a:hlinkClick r:id="rId4" action="ppaction://hlinksldjump"/>
              </a:rPr>
              <a:t>Drag</a:t>
            </a:r>
            <a:br>
              <a:rPr sz="2600"/>
            </a:br>
            <a:r>
              <a:rPr b="0" lang="en-AU" sz="2600" spc="-1" strike="noStrike" u="sng">
                <a:solidFill>
                  <a:srgbClr val="ffde66"/>
                </a:solidFill>
                <a:uFillTx/>
                <a:latin typeface="Constantia"/>
                <a:hlinkClick r:id="rId5" action="ppaction://hlinksldjump"/>
              </a:rPr>
              <a:t>Thrust</a:t>
            </a:r>
            <a:br>
              <a:rPr sz="2600"/>
            </a:br>
            <a:r>
              <a:rPr b="0" lang="en-AU" sz="2600" spc="-1" strike="noStrike">
                <a:solidFill>
                  <a:srgbClr val="ffff00"/>
                </a:solidFill>
                <a:latin typeface="Constantia"/>
              </a:rPr>
              <a:t>Flaps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0066"/>
                </a:solidFill>
                <a:latin typeface="Calibri"/>
              </a:rPr>
              <a:t>Gravity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ff0066"/>
                </a:solidFill>
                <a:latin typeface="Constantia"/>
              </a:rPr>
              <a:t>The force that causes everything to fall towards the centre of the earth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ff0066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C:\Program Files\Microsoft Office\Media\CntCD1\ClipArt3\j0233183.wmf"/>
          <p:cNvPicPr/>
          <p:nvPr/>
        </p:nvPicPr>
        <p:blipFill>
          <a:blip r:embed="rId1"/>
          <a:stretch/>
        </p:blipFill>
        <p:spPr>
          <a:xfrm>
            <a:off x="5929200" y="4071960"/>
            <a:ext cx="2928960" cy="22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cc00ff"/>
                </a:solidFill>
                <a:latin typeface="Calibri"/>
              </a:rPr>
              <a:t>Lif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cc00cc"/>
                </a:solidFill>
                <a:latin typeface="Constantia"/>
              </a:rPr>
              <a:t>To raise or bring something upwards.</a:t>
            </a:r>
            <a:br>
              <a:rPr sz="2600"/>
            </a:br>
            <a:r>
              <a:rPr b="0" lang="en-AU" sz="2600" spc="-1" strike="noStrike">
                <a:solidFill>
                  <a:srgbClr val="cc00cc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C:\Program Files\Microsoft Office\Media\CntCD1\ClipArt3\j0239043.wmf"/>
          <p:cNvPicPr/>
          <p:nvPr/>
        </p:nvPicPr>
        <p:blipFill>
          <a:blip r:embed="rId1"/>
          <a:stretch/>
        </p:blipFill>
        <p:spPr>
          <a:xfrm>
            <a:off x="6000840" y="4000680"/>
            <a:ext cx="2643120" cy="21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ff00"/>
                </a:solidFill>
                <a:latin typeface="Calibri"/>
              </a:rPr>
              <a:t>Dra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00ff00"/>
                </a:solidFill>
                <a:latin typeface="Constantia"/>
              </a:rPr>
              <a:t>To pull something slowly or fa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5" descr="C:\Program Files\Microsoft Office\Media\CntCD1\ClipArt3\j0234309.wmf"/>
          <p:cNvPicPr/>
          <p:nvPr/>
        </p:nvPicPr>
        <p:blipFill>
          <a:blip r:embed="rId1"/>
          <a:stretch/>
        </p:blipFill>
        <p:spPr>
          <a:xfrm>
            <a:off x="5429160" y="3929040"/>
            <a:ext cx="3143520" cy="201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ff"/>
                </a:solidFill>
                <a:latin typeface="Calibri"/>
              </a:rPr>
              <a:t>Thrus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r>
              <a:rPr b="0" lang="en-AU" sz="2600" spc="-1" strike="noStrike">
                <a:solidFill>
                  <a:srgbClr val="0000ff"/>
                </a:solidFill>
                <a:latin typeface="Constantia"/>
              </a:rPr>
              <a:t>To force or push hard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C:\Program Files\Microsoft Office\Media\CntCD1\Animated\j0284039.gif"/>
          <p:cNvPicPr/>
          <p:nvPr/>
        </p:nvPicPr>
        <p:blipFill>
          <a:blip r:embed="rId1"/>
          <a:stretch/>
        </p:blipFill>
        <p:spPr>
          <a:xfrm>
            <a:off x="5786280" y="3214800"/>
            <a:ext cx="2928960" cy="25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3300"/>
                </a:solidFill>
                <a:latin typeface="Calibri"/>
              </a:rPr>
              <a:t>Flap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ff3300"/>
                </a:solidFill>
                <a:latin typeface="Constantia"/>
              </a:rPr>
              <a:t>To move up and d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C:\Program Files\Microsoft Office\Media\CntCD1\Animated\j0288894.gif"/>
          <p:cNvPicPr/>
          <p:nvPr/>
        </p:nvPicPr>
        <p:blipFill>
          <a:blip r:embed="rId1"/>
          <a:stretch/>
        </p:blipFill>
        <p:spPr>
          <a:xfrm>
            <a:off x="714240" y="3929040"/>
            <a:ext cx="2357640" cy="1847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Program Files\Microsoft Office\Media\CntCD1\Animated\j0336836.gif"/>
          <p:cNvPicPr/>
          <p:nvPr/>
        </p:nvPicPr>
        <p:blipFill>
          <a:blip r:embed="rId2"/>
          <a:stretch/>
        </p:blipFill>
        <p:spPr>
          <a:xfrm>
            <a:off x="5572080" y="3857760"/>
            <a:ext cx="2405160" cy="196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1:41:31Z</dcterms:created>
  <dc:creator>Education</dc:creator>
  <dc:description/>
  <dc:language>en-US</dc:language>
  <cp:lastModifiedBy>Education</cp:lastModifiedBy>
  <dcterms:modified xsi:type="dcterms:W3CDTF">2009-08-28T05:11:49Z</dcterms:modified>
  <cp:revision>10</cp:revision>
  <dc:subject/>
  <dc:title>FLIGHT GLOSSERY</dc:title>
</cp:coreProperties>
</file>